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-360" y="-8525160"/>
            <a:ext cx="360" cy="184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87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-5202360" y="-593640"/>
            <a:ext cx="24118920" cy="1809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-5202360" y="-593640"/>
            <a:ext cx="24118920" cy="1809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-5202360" y="-593640"/>
            <a:ext cx="24118920" cy="1809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-5202360" y="-593640"/>
            <a:ext cx="24118920" cy="1809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-5202360" y="-593640"/>
            <a:ext cx="24118920" cy="1809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-5202360" y="-593640"/>
            <a:ext cx="24118920" cy="1809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-5202360" y="-593640"/>
            <a:ext cx="24118920" cy="1809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-677880"/>
            <a:ext cx="1440" cy="1826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-677880"/>
            <a:ext cx="1440" cy="1826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-5202360" y="-593640"/>
            <a:ext cx="24118920" cy="1809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-8439120"/>
            <a:ext cx="1440" cy="1826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-8353440"/>
            <a:ext cx="1440" cy="1809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-8353440"/>
            <a:ext cx="1440" cy="1809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-5202360" y="-593640"/>
            <a:ext cx="24118920" cy="1809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-5202360" y="-593640"/>
            <a:ext cx="24118920" cy="1809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DA30-D6E0-4BE6-A2BC-1B993CBA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196920"/>
            <a:ext cx="777564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5512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366800"/>
            <a:ext cx="775512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4C3E-7603-49E6-A4CD-AEF93BBD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196920"/>
            <a:ext cx="777564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366800"/>
            <a:ext cx="378432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56640" y="4366800"/>
            <a:ext cx="378432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4D31-65A3-4693-B58C-84B1CDE4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196920"/>
            <a:ext cx="777564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49696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04840" y="2017440"/>
            <a:ext cx="249696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27080" y="2017440"/>
            <a:ext cx="249696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366800"/>
            <a:ext cx="249696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04840" y="4366800"/>
            <a:ext cx="249696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27080" y="4366800"/>
            <a:ext cx="249696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6474-E406-45F3-BB8E-B99779E0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2880-851C-4A39-9A14-8C78DDF7C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96920"/>
            <a:ext cx="777564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551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06D5-A8A2-44E3-8308-01BA6B5C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96920"/>
            <a:ext cx="777564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551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6CA8-48F9-4868-A45D-40B1C85E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196920"/>
            <a:ext cx="777564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63C2-8AAE-4A18-AF25-78DBE205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96920"/>
            <a:ext cx="777564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05AE-08DB-49B0-9D03-9CE2C994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196920"/>
            <a:ext cx="7775640" cy="68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3AD6-CB21-45FC-B709-1D5E28D2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196920"/>
            <a:ext cx="777564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366800"/>
            <a:ext cx="378432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8FC9-359E-4093-857D-ECA1AC5E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196920"/>
            <a:ext cx="777564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551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1FA0-BA0C-4FFC-9091-6BFFC901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196920"/>
            <a:ext cx="777564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6640" y="4366800"/>
            <a:ext cx="378432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B715-6C5B-49D5-93C6-CA59BFAD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196920"/>
            <a:ext cx="777564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366800"/>
            <a:ext cx="775512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82DC-61E5-42A6-88A6-E55C8637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196920"/>
            <a:ext cx="777564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5512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366800"/>
            <a:ext cx="775512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7732-DF1D-44CB-BE05-F574EA7C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196920"/>
            <a:ext cx="777564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366800"/>
            <a:ext cx="378432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6640" y="4366800"/>
            <a:ext cx="378432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2D68-98A2-4882-891E-6724DD48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196920"/>
            <a:ext cx="777564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49696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04840" y="2017440"/>
            <a:ext cx="249696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27080" y="2017440"/>
            <a:ext cx="249696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366800"/>
            <a:ext cx="249696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04840" y="4366800"/>
            <a:ext cx="249696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27080" y="4366800"/>
            <a:ext cx="249696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9832-9776-4B89-B6F8-29878D2C8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196920"/>
            <a:ext cx="777564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551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3DC7-61F0-44AA-9C73-D1512231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196920"/>
            <a:ext cx="777564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7C5E-6B60-4BB6-9B69-32D32DCE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196920"/>
            <a:ext cx="777564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55BB-C60D-4C93-901C-F7B31F53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196920"/>
            <a:ext cx="7775640" cy="68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AF37-E99B-4B75-A452-2DCF82DE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196920"/>
            <a:ext cx="777564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366800"/>
            <a:ext cx="378432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6941-FECC-4F8C-B459-051B5751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196920"/>
            <a:ext cx="777564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56640" y="4366800"/>
            <a:ext cx="378432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211A-97CA-4548-94FE-1A6D73A0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196920"/>
            <a:ext cx="777564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8432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6640" y="2017440"/>
            <a:ext cx="378432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366800"/>
            <a:ext cx="775512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3C9C-056E-4D4C-91A8-78C330B9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96920"/>
            <a:ext cx="777564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551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lnSpc>
                <a:spcPct val="111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5400" indent="-268200">
              <a:lnSpc>
                <a:spcPct val="111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1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11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11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11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11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1720" y="6243480"/>
            <a:ext cx="1887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782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887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2F447-912A-430D-A839-C00D012D129C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28600"/>
            <a:ext cx="9009000" cy="1052640"/>
            <a:chOff x="0" y="22860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336600"/>
              <a:ext cx="711360" cy="474480"/>
              <a:chOff x="290520" y="33660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336600"/>
                <a:ext cx="43812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4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200" y="336600"/>
                <a:ext cx="32868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4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758880"/>
              <a:ext cx="738000" cy="474480"/>
              <a:chOff x="414360" y="758880"/>
              <a:chExt cx="73800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758880"/>
                <a:ext cx="42228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4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2640" y="758880"/>
                <a:ext cx="3697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4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6858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2860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4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0490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4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1657440"/>
            <a:ext cx="775476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8874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1c1c1c"/>
                </a:solidFill>
                <a:latin typeface="Tahoma"/>
                <a:ea typeface="Arial Unicode MS"/>
              </a:defRPr>
            </a:lvl1pPr>
          </a:lstStyle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782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1c1c1c"/>
                </a:solidFill>
                <a:latin typeface="Tahoma"/>
                <a:ea typeface="Arial Unicode MS"/>
              </a:defRPr>
            </a:lvl1pPr>
          </a:lstStyle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8874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1c1c1c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02F4808-F80C-47D5-9B56-AA7A1140F3F7}" type="slidenum">
              <a:rPr b="0" lang="en-GB" sz="1400" spc="-1" strike="noStrike">
                <a:solidFill>
                  <a:srgbClr val="1c1c1c"/>
                </a:solidFill>
                <a:latin typeface="Tahoma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30492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rojeto de Conclusão de Curso - SISI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066680" y="15840"/>
            <a:ext cx="1295640" cy="97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920" y="379080"/>
            <a:ext cx="73152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GITALIZAÇÃO DE DOCUMEN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828800"/>
            <a:ext cx="7848720" cy="27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stema de Digitalização de Documentos (DigiDo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rientador: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f. Mario de Paula Soares Fil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tegra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1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Daniel Volochen do Car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1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Jean Marcel Car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1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Renato Antonio Lo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50920" y="246240"/>
            <a:ext cx="778032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ahoma"/>
              </a:rPr>
              <a:t>DIGIDOC – DIGITALIZAÇÃO DE DOCUM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48000" y="1379520"/>
            <a:ext cx="27003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MicroIsis - Win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9120" y="1584360"/>
            <a:ext cx="78501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ahoma"/>
              </a:rPr>
              <a:t>HISTÓRIC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1975 – Junção CDS (Unesco) + Isis (OIT) – CDS/ISIS - Mainfr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Entre 1982 e 1983 – Desenvolvimento CDS/ISIS para computadores pessoai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50920" y="246240"/>
            <a:ext cx="778032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ahoma"/>
              </a:rPr>
              <a:t>DIGIDOC – DIGITALIZAÇÃO DE DOCUM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48000" y="1379520"/>
            <a:ext cx="27003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MicroIsis - Win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89120" y="2089080"/>
            <a:ext cx="7850160" cy="36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ahoma"/>
              </a:rPr>
              <a:t>DADOS TÉCNICO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Versão Atual :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WinIsis 1.5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As seguintes restrições do sistema encontram-se atualmente em vigo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Número máximo de bases de dados: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ilimitado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Número máximo de registros na base de dados, dentro do limite de 500 Mb: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16 milhões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50920" y="246240"/>
            <a:ext cx="778032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ahoma"/>
              </a:rPr>
              <a:t>DIGIDOC – DIGITALIZAÇÃO DE DOCUM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97080" y="1379520"/>
            <a:ext cx="27003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MicroIsis - Win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90560" y="2124000"/>
            <a:ext cx="785016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ahoma"/>
              </a:rPr>
              <a:t>DADOS TÉCNICO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Tamanho máximo do registro (4 páginas A-4 ):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8000 caracteres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Máximo de campos (definíveis na FDT):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 200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N. máx. de linhas da FST: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200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Tamanho máximo do campo: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1650 caracteres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52360" y="247680"/>
            <a:ext cx="77806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ahoma"/>
              </a:rPr>
              <a:t>DIGIDOC – DIGITALIZAÇÃO DE DOCUM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97080" y="1379520"/>
            <a:ext cx="27003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MicroIsis - Win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0560" y="2089080"/>
            <a:ext cx="785016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ahoma"/>
              </a:rPr>
              <a:t>DADOS TÉCNICO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Máximo de campos em uma planilha: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19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Máximo de páginas em uma planilha: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20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Tamanho máximo de um formato de exibição (2 páginas A-4):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4000 caracteres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Máximo de palavras proibidas (arquivo stopword):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799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50920" y="246240"/>
            <a:ext cx="778032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ahoma"/>
              </a:rPr>
              <a:t>DIGIDOC – DIGITALIZAÇÃO DE DOCUM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97080" y="1379520"/>
            <a:ext cx="27003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MicroIsis - Win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00360"/>
            <a:ext cx="7850160" cy="47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ahoma"/>
              </a:rPr>
              <a:t>ESTRUTURA (principais arquivo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MST -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ntém todos os registros de uma determinada base de dad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IFP –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rquivo invertido – termos para busca de dad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FST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-  define os campos e as técnicas de inversão sobre os quais serão feitas as busc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FDT -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efine os campos que compõe o registr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50920" y="246240"/>
            <a:ext cx="778032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ahoma"/>
              </a:rPr>
              <a:t>DIGIDOC – DIGITALIZAÇÃO DE DOCUM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95640" y="1379520"/>
            <a:ext cx="27003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MicroIsis - Win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89120" y="1960560"/>
            <a:ext cx="7850160" cy="51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ahoma"/>
              </a:rPr>
              <a:t>VANTAGE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balha com campos e consequentemente registros de tamanho variáve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strutura de dados dos índices : Arvore Balancea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lternativa de baixo cus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50920" y="246240"/>
            <a:ext cx="778032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ahoma"/>
              </a:rPr>
              <a:t>DIGIDOC – DIGITALIZAÇÃO DE DOCUM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95640" y="1379520"/>
            <a:ext cx="27003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MicroIsis - Win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89120" y="2039760"/>
            <a:ext cx="7850160" cy="37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ahoma"/>
              </a:rPr>
              <a:t>ARMAZENAMENTO DE INFORMAÇÕ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lementos de Dados armazenados em campos, a cada um dos quais 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tribuido uma etiqueta numérica indicativa de seu conteúd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Um campo pode conter dois ou mais elementos de dados – Subcamp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 mesmo campo pode possuir mais de uma informação – Campos Repetitiv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50920" y="246240"/>
            <a:ext cx="778032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ahoma"/>
              </a:rPr>
              <a:t>DIGIDOC – DIGITALIZAÇÃO DE DOCUM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95640" y="1379520"/>
            <a:ext cx="27003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MicroIsis - Win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9120" y="2039760"/>
            <a:ext cx="7850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ahoma"/>
              </a:rPr>
              <a:t>COMPARATIVO – BD RELACION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nsiderando uma base de dados com 32768 registr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Utilizando a estrutura de índice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Árvore Balancead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do WinIsis, como a ordem de grandeza dos algoritmos de busca de árvores é representado palo logaritimo de n na base 2, teríam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áximo de Interações: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1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alização de cada interação: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0,0000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5 x 0,00001 = </a:t>
            </a:r>
            <a:r>
              <a:rPr b="1" lang="en-GB" sz="2500" spc="-1" strike="noStrike">
                <a:solidFill>
                  <a:srgbClr val="000000"/>
                </a:solidFill>
                <a:latin typeface="Tahoma"/>
              </a:rPr>
              <a:t>0,0015 segund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50920" y="246240"/>
            <a:ext cx="778032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ahoma"/>
              </a:rPr>
              <a:t>DIGIDOC – DIGITALIZAÇÃO DE DOCUM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95640" y="1379520"/>
            <a:ext cx="27003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MicroIsis - Win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89120" y="2039760"/>
            <a:ext cx="7850160" cy="46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ahoma"/>
              </a:rPr>
              <a:t>COMPARATIVO – BD RELACION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nsiderando uma base de dados com 32768 registr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Utilizando um banco relacional qualquer, caso não se tenha tomado uma quantidade considerável de cuidados, como adoção de índices, executando uma query sql do tipo ‘SELECT * FROM LIVROS WHERE TITULO = “Documento”’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1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Considerando o pior caso (busca sequencial de todos os títulos dos livros cadastra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áximo de Interações: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alização de cada interação: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0,0000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5 x 0,00001 = </a:t>
            </a:r>
            <a:r>
              <a:rPr b="1" lang="en-GB" sz="2500" spc="-1" strike="noStrike">
                <a:solidFill>
                  <a:srgbClr val="000000"/>
                </a:solidFill>
                <a:latin typeface="Tahoma"/>
              </a:rPr>
              <a:t>3,2768 segund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50920" y="246240"/>
            <a:ext cx="778032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ahoma"/>
              </a:rPr>
              <a:t>DIGIDOC – DIGITALIZAÇÃO DE DOCUM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95640" y="1379520"/>
            <a:ext cx="27003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IsisD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89120" y="2039760"/>
            <a:ext cx="7850160" cy="50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LL criada pela Bireme para proporcionar o desenvolvimento de aplicações com suporte ao MicroIsi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erramenta de desenvolvimento de aplicativos Isis, feita para rodar 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mbiente Ms. Windows com interfaces gráficas para plataformas de 16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32 bit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stas aplicações podem ser chamadas de qualquer aplicação escrita 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lgum compilador para ambiente Windows e que suporte chamada de DL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600200" y="225900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649520"/>
            <a:ext cx="7848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humanidade gerou a mesma quantidade de informação nos últimos 50 anos que nos 5 mil anteriores. Esse número duplicará nos próximos 26 meses. Em 2010, a informação duplicará a cada 11 ho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ada vez mais estamos gerando mais documentos em papel. Segundo a AIIM International – Association for Information and Image Management International, EUA, a maior associação do mundo sobre gerenciamento da documentação, 95% das informações dos Estados Unidos estavam em papel em 1990. Em 2007, cerca de 92% das informações ainda estarão em papel.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ssa avalanche de papel gera a cada dia maiores problem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Um executivo gasta em média quatro semanas por ano procurando document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z-se, em média, 19 cópias de cada documen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Gasta-se US$ 250,00 para recriar cada documento perdid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Um CD-R mede 120mm de diâmetro e pode armazenar até 650 MB de informação. Isso corresponde a 13 mil páginas de documen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91160" y="1198440"/>
            <a:ext cx="13284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Histó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50920" y="246240"/>
            <a:ext cx="778032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ahoma"/>
              </a:rPr>
              <a:t>DIGIDOC – DIGITALIZAÇÃO DE DOCUM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50920" y="246240"/>
            <a:ext cx="778032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ahoma"/>
              </a:rPr>
              <a:t>DIGIDOC – DIGITALIZAÇÃO DE DOCUM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95640" y="1379520"/>
            <a:ext cx="27003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Flux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979640" y="1901880"/>
            <a:ext cx="5510160" cy="47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920" y="245880"/>
            <a:ext cx="778032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ahoma"/>
              </a:rPr>
              <a:t>DIGIDOC – DIGITALIZAÇÃO DE DOCUMENTOS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842120" y="1398600"/>
            <a:ext cx="61394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Gerenciameto Eletrônico de Documentos (G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225900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649520"/>
            <a:ext cx="7848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GED é uma tecnologia que provê um meio de facilmente gerar, capturar, gerenciar, armazernar, preservar e recuperar informações existentes em docum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1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00000" y="3240000"/>
            <a:ext cx="8001000" cy="15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BECPCA+Arial,Bold;Arial"/>
              </a:rPr>
              <a:t>Vantagens do Uso do G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BECPCA+Arial,Bold;Arial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BECPJM+Arial;Arial"/>
              </a:rPr>
              <a:t>Redução de áreas de arquiv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BECPJM+Arial;Arial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BECPJM+Arial;Arial"/>
              </a:rPr>
              <a:t>Redução no tempo de recuperação da inform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BECPJM+Arial;Arial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BECPJM+Arial;Arial"/>
              </a:rPr>
              <a:t>Possibilidade de acesso por mais de um usuár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spcAft>
                <a:spcPts val="1063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BECPJM+Arial;Arial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BECPJM+Arial;Arial"/>
              </a:rPr>
              <a:t>Possibilidade de manter cópias de seguranç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09480" y="1295280"/>
            <a:ext cx="784872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1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43080" y="1805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05120" y="2541600"/>
            <a:ext cx="4857480" cy="3247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150920" y="246240"/>
            <a:ext cx="778032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ahoma"/>
              </a:rPr>
              <a:t>DIGIDOC – DIGITALIZAÇÃO DE DOCUM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33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2362320"/>
            <a:ext cx="7848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1063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O objetivo geral é projetar e implementar um sistema computacional que automatize o trabalho de digitalização de documentos e possibilite uma pesquisa prática aos documentos já digitaliz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1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09960" y="1409760"/>
            <a:ext cx="24764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Objetivos Ger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50920" y="246240"/>
            <a:ext cx="778032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ahoma"/>
              </a:rPr>
              <a:t>DIGIDOC – DIGITALIZAÇÃO DE DOCUM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89120" y="1800360"/>
            <a:ext cx="7850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esenvolvimento: Delphi 7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anco de dados: WinISIS 1.5, Firebird 1.5.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PI para manipular a Base ISIS: ISIS DLL 7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mponente Twain: Delphi Twai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erenciamento de banco de dados: IBExpert Version 2006.10.1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riação de Cronogramas: MS Project 2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elagem de Dados: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el Maker 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latórios, planilhas e apresentações: OpenOffice 2.1 e MSOffice 200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ensagens instantâneas: Windows Live Messenger e Google Tal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09960" y="1409760"/>
            <a:ext cx="34700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Ferramentas Utiliz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50920" y="246240"/>
            <a:ext cx="778032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ahoma"/>
              </a:rPr>
              <a:t>DIGIDOC – DIGITALIZAÇÃO DE DOCUM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419640" y="1270080"/>
            <a:ext cx="19810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Delphi Tw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50920" y="246240"/>
            <a:ext cx="778032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ahoma"/>
              </a:rPr>
              <a:t>DIGIDOC – DIGITALIZAÇÃO DE DOCUM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2362320"/>
            <a:ext cx="784872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 Delphi Twain é um componente que possibilita o acesso a funcionalidades Twain através do Delphi de forma “transparente” para o desenvolve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mo ele, através de um programa Delphi, é possível utilizar a maioria dos Scanners, webcams, fax modens, câmeras digitais para capturar imag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1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50920" y="246240"/>
            <a:ext cx="778032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ahoma"/>
              </a:rPr>
              <a:t>DIGIDOC – DIGITALIZAÇÃO DE DOCUM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95640" y="1379520"/>
            <a:ext cx="27003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MicroIsis - Win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89120" y="2340000"/>
            <a:ext cx="78501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MICRO-COMPUTER VERSION - INTEGRATED SET OF INFORMATION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egundo o informativo do IBICT sobre Características do micro CDS/ISIS o "CDS/ISIS é um sistema genérico de armazenamento e recuperação de informações, desenvolvido pela UNESCO, especialmente projetado para o gerenciamento computadorizado de bases de dados não numéricas, isto é, bases de dados cujo principal conteúdo é texto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50920" y="246240"/>
            <a:ext cx="778032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ahoma"/>
              </a:rPr>
              <a:t>DIGIDOC – DIGITALIZAÇÃO DE DOCUM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19640" y="1379520"/>
            <a:ext cx="27000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MicroIsis - Win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9120" y="2340000"/>
            <a:ext cx="785016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89120" y="2340000"/>
            <a:ext cx="7850160" cy="32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89120" y="1584360"/>
            <a:ext cx="785016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1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ahoma"/>
              </a:rPr>
              <a:t>HISTÓRIC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1960 – Antecedente Isis (Integrated Set of Information System) – desenvolvido na Organização Internacional do Trabalho (OIT) – Mainfr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Paralelamente CDS (Computarized Documentation System) – Unesc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Arial Unicode MS"/>
              </a:rPr>
              <a:t>1974 – Desenvolvimento MiniIsis (1976 – 1977) – Internation Development Research Center – Compatíveis com os Microcomputadores HP da série 3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DIGITALIZAÇÃO DE DOCUMENTOS</dc:title>
</cp:coreProperties>
</file>